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0CE-8EB5-4730-A1F4-3F0C44B4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D84-D428-48DE-AE64-E7705A09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DB4-88BB-4AAD-A090-FF8E70A7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8D1-895B-42E3-9CB9-4FFFBE1B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29B-2962-4CB4-B077-C34BE1C0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096-7862-46F9-837D-8943D42A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6D4-B1A3-447D-B810-B37824EE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A5A-B569-4DF1-B83E-B336F71E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967-BF24-47DC-B0F0-8F21701E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A7C-D38B-491D-B901-C578ADC5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038-1BB3-4609-A474-87210E2F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390-A730-4839-A9F8-5844AC06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C844-FC11-41CD-8526-275B01A2A8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1.gstatic.com/images?q=tbn:UKhR8an3ehPTvM:http://puzkarapuz.ru/uploads/posts/2009-03/1236763892_eef4bz1tpl.jp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Bookman Old Style"/>
              </a:rPr>
              <a:t>Внеклассное мероприятие</a:t>
            </a:r>
            <a:br>
              <a:rPr sz="4400"/>
            </a:br>
            <a:r>
              <a:rPr b="0" lang="ru-RU" sz="4400" spc="-1" strike="noStrike">
                <a:solidFill>
                  <a:srgbClr val="663300"/>
                </a:solidFill>
                <a:latin typeface="Bookman Old Style"/>
              </a:rPr>
              <a:t>Звёздный ча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3886200"/>
            <a:ext cx="8429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0" i="1" lang="ru-RU" sz="3200" spc="-1" strike="noStrike">
                <a:solidFill>
                  <a:srgbClr val="663300"/>
                </a:solidFill>
                <a:latin typeface="Bookman Old Style"/>
              </a:rPr>
              <a:t>Юнина Ири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Bookman Old Style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Bookman Old Style"/>
              </a:rPr>
              <a:t> </a:t>
            </a:r>
            <a:r>
              <a:rPr b="0" i="1" lang="ru-RU" sz="3200" spc="-1" strike="noStrike">
                <a:solidFill>
                  <a:srgbClr val="663300"/>
                </a:solidFill>
                <a:latin typeface="Bookman Old Style"/>
              </a:rPr>
              <a:t>МАОУ «СШ № 102» г. Нижний Нов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Documents and Settings\Администратор.ISAEV_NOTE.001\Рабочий стол\Мама\рисунки\8087ffa5ecd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0" y="19080"/>
            <a:ext cx="2949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5"/>
          <p:cNvSpPr txBox="1"/>
          <p:nvPr/>
        </p:nvSpPr>
        <p:spPr>
          <a:xfrm>
            <a:off x="395280" y="333360"/>
            <a:ext cx="78588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cc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cc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1908000" y="1052640"/>
            <a:ext cx="78588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cc99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00cc99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4859280" y="1125360"/>
            <a:ext cx="785880" cy="134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ff"/>
                  </a:solidFill>
                  <a:miter/>
                </a:ln>
                <a:solidFill>
                  <a:srgbClr val="ff505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cc00ff"/>
                </a:solidFill>
                <a:miter/>
              </a:ln>
              <a:solidFill>
                <a:srgbClr val="ff505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7740720" y="1125360"/>
            <a:ext cx="785880" cy="134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WordArt 9"/>
          <p:cNvSpPr txBox="1"/>
          <p:nvPr/>
        </p:nvSpPr>
        <p:spPr>
          <a:xfrm>
            <a:off x="6372360" y="333360"/>
            <a:ext cx="78552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9933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9933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6588000" y="2997360"/>
            <a:ext cx="78588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ff"/>
                  </a:solidFill>
                  <a:miter/>
                </a:ln>
                <a:solidFill>
                  <a:srgbClr val="ffcc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cc00ff"/>
                </a:solidFill>
                <a:miter/>
              </a:ln>
              <a:solidFill>
                <a:srgbClr val="ffcc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WordArt 11"/>
          <p:cNvSpPr txBox="1"/>
          <p:nvPr/>
        </p:nvSpPr>
        <p:spPr>
          <a:xfrm>
            <a:off x="539640" y="2924280"/>
            <a:ext cx="78588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ccff66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Ч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ccff66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WordArt 12"/>
          <p:cNvSpPr txBox="1"/>
          <p:nvPr/>
        </p:nvSpPr>
        <p:spPr>
          <a:xfrm>
            <a:off x="2124000" y="4581360"/>
            <a:ext cx="78588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ff"/>
                  </a:solidFill>
                  <a:miter/>
                </a:ln>
                <a:solidFill>
                  <a:srgbClr val="006666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cc00ff"/>
                </a:solidFill>
                <a:miter/>
              </a:ln>
              <a:solidFill>
                <a:srgbClr val="006666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WordArt 13"/>
          <p:cNvSpPr txBox="1"/>
          <p:nvPr/>
        </p:nvSpPr>
        <p:spPr>
          <a:xfrm>
            <a:off x="3276720" y="404640"/>
            <a:ext cx="785520" cy="134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14"/>
          <p:cNvSpPr txBox="1"/>
          <p:nvPr/>
        </p:nvSpPr>
        <p:spPr>
          <a:xfrm>
            <a:off x="3492360" y="2924280"/>
            <a:ext cx="78588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ff"/>
                  </a:solidFill>
                  <a:miter/>
                </a:ln>
                <a:solidFill>
                  <a:srgbClr val="80008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Ъ</a:t>
            </a:r>
            <a:endParaRPr b="1" lang="en-US" sz="1800" spc="1" strike="noStrike">
              <a:ln w="9360">
                <a:solidFill>
                  <a:srgbClr val="cc00ff"/>
                </a:solidFill>
                <a:miter/>
              </a:ln>
              <a:solidFill>
                <a:srgbClr val="80008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15"/>
          <p:cNvSpPr txBox="1"/>
          <p:nvPr/>
        </p:nvSpPr>
        <p:spPr>
          <a:xfrm>
            <a:off x="5148360" y="4869000"/>
            <a:ext cx="1008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ff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*</a:t>
            </a:r>
            <a:endParaRPr b="1" lang="en-US" sz="1800" spc="1" strike="noStrike">
              <a:ln w="9360">
                <a:solidFill>
                  <a:srgbClr val="cc00ff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3"/>
          <p:cNvGrpSpPr/>
          <p:nvPr/>
        </p:nvGrpSpPr>
        <p:grpSpPr>
          <a:xfrm>
            <a:off x="826920" y="549360"/>
            <a:ext cx="6050160" cy="1584360"/>
            <a:chOff x="826920" y="549360"/>
            <a:chExt cx="6050160" cy="1584360"/>
          </a:xfrm>
        </p:grpSpPr>
        <p:sp>
          <p:nvSpPr>
            <p:cNvPr id="96" name="WordArt 5"/>
            <p:cNvSpPr txBox="1"/>
            <p:nvPr/>
          </p:nvSpPr>
          <p:spPr>
            <a:xfrm>
              <a:off x="2556000" y="549360"/>
              <a:ext cx="4321080" cy="15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663300"/>
                    </a:solidFill>
                    <a:miter/>
                  </a:ln>
                  <a:gradFill rotWithShape="0">
                    <a:gsLst>
                      <a:gs pos="0">
                        <a:srgbClr val="fbeac7"/>
                      </a:gs>
                      <a:gs pos="100000">
                        <a:srgbClr val="fee7f2"/>
                      </a:gs>
                    </a:gsLst>
                    <a:lin ang="5400000"/>
                  </a:gradFill>
                  <a:effectLst>
                    <a:outerShdw dist="107932" dir="18900000" blurRad="0" rotWithShape="0">
                      <a:srgbClr val="cc6600">
                        <a:alpha val="50000"/>
                      </a:srgbClr>
                    </a:outerShdw>
                  </a:effectLst>
                  <a:latin typeface="Arial"/>
                </a:rPr>
                <a:t>РЕКА</a:t>
              </a:r>
              <a:endParaRPr b="1" lang="en-US" sz="1800" spc="1" strike="noStrike">
                <a:ln w="2844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c660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97" name="Oval 7"/>
            <p:cNvSpPr/>
            <p:nvPr/>
          </p:nvSpPr>
          <p:spPr>
            <a:xfrm>
              <a:off x="826920" y="907920"/>
              <a:ext cx="792360" cy="7923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4"/>
          <p:cNvGrpSpPr/>
          <p:nvPr/>
        </p:nvGrpSpPr>
        <p:grpSpPr>
          <a:xfrm>
            <a:off x="900000" y="2565360"/>
            <a:ext cx="5977080" cy="1584360"/>
            <a:chOff x="900000" y="2565360"/>
            <a:chExt cx="5977080" cy="1584360"/>
          </a:xfrm>
        </p:grpSpPr>
        <p:sp>
          <p:nvSpPr>
            <p:cNvPr id="99" name="WordArt 4"/>
            <p:cNvSpPr txBox="1"/>
            <p:nvPr/>
          </p:nvSpPr>
          <p:spPr>
            <a:xfrm>
              <a:off x="2556000" y="2565360"/>
              <a:ext cx="4321080" cy="15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663300"/>
                    </a:solidFill>
                    <a:miter/>
                  </a:ln>
                  <a:gradFill rotWithShape="0">
                    <a:gsLst>
                      <a:gs pos="0">
                        <a:srgbClr val="fbeac7"/>
                      </a:gs>
                      <a:gs pos="100000">
                        <a:srgbClr val="fee7f2"/>
                      </a:gs>
                    </a:gsLst>
                    <a:lin ang="5400000"/>
                  </a:gradFill>
                  <a:effectLst>
                    <a:outerShdw dist="107932" dir="18900000" blurRad="0" rotWithShape="0">
                      <a:srgbClr val="cc6600">
                        <a:alpha val="50000"/>
                      </a:srgbClr>
                    </a:outerShdw>
                  </a:effectLst>
                  <a:latin typeface="Arial"/>
                </a:rPr>
                <a:t>МОРЕ</a:t>
              </a:r>
              <a:endParaRPr b="1" lang="en-US" sz="1800" spc="1" strike="noStrike">
                <a:ln w="2844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c660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900000" y="2924280"/>
              <a:ext cx="792360" cy="7920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826920" y="4581360"/>
            <a:ext cx="6336000" cy="1584360"/>
            <a:chOff x="826920" y="4581360"/>
            <a:chExt cx="6336000" cy="1584360"/>
          </a:xfrm>
        </p:grpSpPr>
        <p:sp>
          <p:nvSpPr>
            <p:cNvPr id="102" name="WordArt 6"/>
            <p:cNvSpPr txBox="1"/>
            <p:nvPr/>
          </p:nvSpPr>
          <p:spPr>
            <a:xfrm>
              <a:off x="2122560" y="4581360"/>
              <a:ext cx="5040360" cy="15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663300"/>
                    </a:solidFill>
                    <a:miter/>
                  </a:ln>
                  <a:gradFill rotWithShape="0">
                    <a:gsLst>
                      <a:gs pos="0">
                        <a:srgbClr val="fbeac7"/>
                      </a:gs>
                      <a:gs pos="100000">
                        <a:srgbClr val="fee7f2"/>
                      </a:gs>
                    </a:gsLst>
                    <a:lin ang="5400000"/>
                  </a:gradFill>
                  <a:effectLst>
                    <a:outerShdw dist="107932" dir="18900000" blurRad="0" rotWithShape="0">
                      <a:srgbClr val="cc6600">
                        <a:alpha val="50000"/>
                      </a:srgbClr>
                    </a:outerShdw>
                  </a:effectLst>
                  <a:latin typeface="Arial"/>
                </a:rPr>
                <a:t>ОКЕАН</a:t>
              </a:r>
              <a:endParaRPr b="1" lang="en-US" sz="1800" spc="1" strike="noStrike">
                <a:ln w="2844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c660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3" name="Oval 9"/>
            <p:cNvSpPr/>
            <p:nvPr/>
          </p:nvSpPr>
          <p:spPr>
            <a:xfrm>
              <a:off x="826920" y="5013360"/>
              <a:ext cx="792360" cy="792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0502E-006 L -1.66667E-006 -0.57714 E">
                                      <p:cBhvr>
                                        <p:cTn id="41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0.01041 L 0.02361 0.59796 E">
                                      <p:cBhvr>
                                        <p:cTn id="41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4"/>
          <p:cNvGrpSpPr/>
          <p:nvPr/>
        </p:nvGrpSpPr>
        <p:grpSpPr>
          <a:xfrm>
            <a:off x="826920" y="549360"/>
            <a:ext cx="6697800" cy="1584360"/>
            <a:chOff x="826920" y="549360"/>
            <a:chExt cx="6697800" cy="1584360"/>
          </a:xfrm>
        </p:grpSpPr>
        <p:sp>
          <p:nvSpPr>
            <p:cNvPr id="105" name="WordArt 3"/>
            <p:cNvSpPr txBox="1"/>
            <p:nvPr/>
          </p:nvSpPr>
          <p:spPr>
            <a:xfrm>
              <a:off x="2556000" y="549360"/>
              <a:ext cx="4968720" cy="15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663300"/>
                    </a:solidFill>
                    <a:miter/>
                  </a:ln>
                  <a:gradFill rotWithShape="0">
                    <a:gsLst>
                      <a:gs pos="0">
                        <a:srgbClr val="fbeac7"/>
                      </a:gs>
                      <a:gs pos="100000">
                        <a:srgbClr val="fee7f2"/>
                      </a:gs>
                    </a:gsLst>
                    <a:lin ang="5400000"/>
                  </a:gradFill>
                  <a:effectLst>
                    <a:outerShdw dist="107932" dir="18900000" blurRad="0" rotWithShape="0">
                      <a:srgbClr val="cc6600">
                        <a:alpha val="50000"/>
                      </a:srgbClr>
                    </a:outerShdw>
                  </a:effectLst>
                  <a:latin typeface="Arial"/>
                </a:rPr>
                <a:t>НОЯБРЬ</a:t>
              </a:r>
              <a:endParaRPr b="1" lang="en-US" sz="1800" spc="1" strike="noStrike">
                <a:ln w="2844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c660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6" name="Oval 4"/>
            <p:cNvSpPr/>
            <p:nvPr/>
          </p:nvSpPr>
          <p:spPr>
            <a:xfrm>
              <a:off x="826920" y="907920"/>
              <a:ext cx="792360" cy="7923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900000" y="2565360"/>
            <a:ext cx="6767640" cy="1584360"/>
            <a:chOff x="900000" y="2565360"/>
            <a:chExt cx="6767640" cy="1584360"/>
          </a:xfrm>
        </p:grpSpPr>
        <p:sp>
          <p:nvSpPr>
            <p:cNvPr id="108" name="WordArt 6"/>
            <p:cNvSpPr txBox="1"/>
            <p:nvPr/>
          </p:nvSpPr>
          <p:spPr>
            <a:xfrm>
              <a:off x="2556000" y="2565360"/>
              <a:ext cx="5111640" cy="15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663300"/>
                    </a:solidFill>
                    <a:miter/>
                  </a:ln>
                  <a:gradFill rotWithShape="0">
                    <a:gsLst>
                      <a:gs pos="0">
                        <a:srgbClr val="fbeac7"/>
                      </a:gs>
                      <a:gs pos="100000">
                        <a:srgbClr val="fee7f2"/>
                      </a:gs>
                    </a:gsLst>
                    <a:lin ang="5400000"/>
                  </a:gradFill>
                  <a:effectLst>
                    <a:outerShdw dist="107932" dir="18900000" blurRad="0" rotWithShape="0">
                      <a:srgbClr val="cc6600">
                        <a:alpha val="50000"/>
                      </a:srgbClr>
                    </a:outerShdw>
                  </a:effectLst>
                  <a:latin typeface="Arial"/>
                </a:rPr>
                <a:t>ОКТЯБРЬ</a:t>
              </a:r>
              <a:endParaRPr b="1" lang="en-US" sz="1800" spc="1" strike="noStrike">
                <a:ln w="2844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c660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900000" y="2924280"/>
              <a:ext cx="792360" cy="7920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6"/>
          <p:cNvGrpSpPr/>
          <p:nvPr/>
        </p:nvGrpSpPr>
        <p:grpSpPr>
          <a:xfrm>
            <a:off x="900000" y="4581360"/>
            <a:ext cx="7056720" cy="1584360"/>
            <a:chOff x="900000" y="4581360"/>
            <a:chExt cx="7056720" cy="1584360"/>
          </a:xfrm>
        </p:grpSpPr>
        <p:sp>
          <p:nvSpPr>
            <p:cNvPr id="111" name="WordArt 9"/>
            <p:cNvSpPr txBox="1"/>
            <p:nvPr/>
          </p:nvSpPr>
          <p:spPr>
            <a:xfrm>
              <a:off x="2195640" y="4581360"/>
              <a:ext cx="5761080" cy="15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663300"/>
                    </a:solidFill>
                    <a:miter/>
                  </a:ln>
                  <a:gradFill rotWithShape="0">
                    <a:gsLst>
                      <a:gs pos="0">
                        <a:srgbClr val="fbeac7"/>
                      </a:gs>
                      <a:gs pos="100000">
                        <a:srgbClr val="fee7f2"/>
                      </a:gs>
                    </a:gsLst>
                    <a:lin ang="5400000"/>
                  </a:gradFill>
                  <a:effectLst>
                    <a:outerShdw dist="107932" dir="18900000" blurRad="0" rotWithShape="0">
                      <a:srgbClr val="cc6600">
                        <a:alpha val="50000"/>
                      </a:srgbClr>
                    </a:outerShdw>
                  </a:effectLst>
                  <a:latin typeface="Arial"/>
                </a:rPr>
                <a:t>ДЕКАБРЬ</a:t>
              </a:r>
              <a:endParaRPr b="1" lang="en-US" sz="1800" spc="1" strike="noStrike">
                <a:ln w="2844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c660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900000" y="5013360"/>
              <a:ext cx="792360" cy="792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8885E-006 L 2.77778E-006 0.29377 E">
                                      <p:cBhvr>
                                        <p:cTn id="43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-3.58085E-006 L -0.01181 -0.29377 E">
                                      <p:cBhvr>
                                        <p:cTn id="43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4"/>
          <p:cNvGrpSpPr/>
          <p:nvPr/>
        </p:nvGrpSpPr>
        <p:grpSpPr>
          <a:xfrm>
            <a:off x="826920" y="549360"/>
            <a:ext cx="6553440" cy="1584360"/>
            <a:chOff x="826920" y="549360"/>
            <a:chExt cx="6553440" cy="1584360"/>
          </a:xfrm>
        </p:grpSpPr>
        <p:sp>
          <p:nvSpPr>
            <p:cNvPr id="114" name="WordArt 3"/>
            <p:cNvSpPr txBox="1"/>
            <p:nvPr/>
          </p:nvSpPr>
          <p:spPr>
            <a:xfrm>
              <a:off x="2411280" y="549360"/>
              <a:ext cx="4969080" cy="15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663300"/>
                    </a:solidFill>
                    <a:miter/>
                  </a:ln>
                  <a:gradFill rotWithShape="0">
                    <a:gsLst>
                      <a:gs pos="0">
                        <a:srgbClr val="fbeac7"/>
                      </a:gs>
                      <a:gs pos="100000">
                        <a:srgbClr val="fee7f2"/>
                      </a:gs>
                    </a:gsLst>
                    <a:lin ang="5400000"/>
                  </a:gradFill>
                  <a:effectLst>
                    <a:outerShdw dist="107932" dir="18900000" blurRad="0" rotWithShape="0">
                      <a:srgbClr val="cc6600">
                        <a:alpha val="50000"/>
                      </a:srgbClr>
                    </a:outerShdw>
                  </a:effectLst>
                  <a:latin typeface="Arial"/>
                </a:rPr>
                <a:t>КОМАР</a:t>
              </a:r>
              <a:endParaRPr b="1" lang="en-US" sz="1800" spc="1" strike="noStrike">
                <a:ln w="2844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c660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15" name="Oval 4"/>
            <p:cNvSpPr/>
            <p:nvPr/>
          </p:nvSpPr>
          <p:spPr>
            <a:xfrm>
              <a:off x="826920" y="907920"/>
              <a:ext cx="792360" cy="7923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5"/>
          <p:cNvGrpSpPr/>
          <p:nvPr/>
        </p:nvGrpSpPr>
        <p:grpSpPr>
          <a:xfrm>
            <a:off x="900000" y="2565360"/>
            <a:ext cx="7201080" cy="1584360"/>
            <a:chOff x="900000" y="2565360"/>
            <a:chExt cx="7201080" cy="1584360"/>
          </a:xfrm>
        </p:grpSpPr>
        <p:sp>
          <p:nvSpPr>
            <p:cNvPr id="117" name="Oval 7"/>
            <p:cNvSpPr/>
            <p:nvPr/>
          </p:nvSpPr>
          <p:spPr>
            <a:xfrm>
              <a:off x="900000" y="2924280"/>
              <a:ext cx="792360" cy="7920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WordArt 9"/>
            <p:cNvSpPr txBox="1"/>
            <p:nvPr/>
          </p:nvSpPr>
          <p:spPr>
            <a:xfrm>
              <a:off x="2340000" y="2565360"/>
              <a:ext cx="5761080" cy="15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663300"/>
                    </a:solidFill>
                    <a:miter/>
                  </a:ln>
                  <a:gradFill rotWithShape="0">
                    <a:gsLst>
                      <a:gs pos="0">
                        <a:srgbClr val="fbeac7"/>
                      </a:gs>
                      <a:gs pos="100000">
                        <a:srgbClr val="fee7f2"/>
                      </a:gs>
                    </a:gsLst>
                    <a:lin ang="5400000"/>
                  </a:gradFill>
                  <a:effectLst>
                    <a:outerShdw dist="107932" dir="18900000" blurRad="0" rotWithShape="0">
                      <a:srgbClr val="cc6600">
                        <a:alpha val="50000"/>
                      </a:srgbClr>
                    </a:outerShdw>
                  </a:effectLst>
                  <a:latin typeface="Arial"/>
                </a:rPr>
                <a:t>ШМЕЛЬ</a:t>
              </a:r>
              <a:endParaRPr b="1" lang="en-US" sz="1800" spc="1" strike="noStrike">
                <a:ln w="2844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c660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900000" y="4508640"/>
            <a:ext cx="5688000" cy="1584360"/>
            <a:chOff x="900000" y="4508640"/>
            <a:chExt cx="5688000" cy="1584360"/>
          </a:xfrm>
        </p:grpSpPr>
        <p:sp>
          <p:nvSpPr>
            <p:cNvPr id="120" name="WordArt 6"/>
            <p:cNvSpPr txBox="1"/>
            <p:nvPr/>
          </p:nvSpPr>
          <p:spPr>
            <a:xfrm>
              <a:off x="2340000" y="4508640"/>
              <a:ext cx="4248000" cy="15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663300"/>
                    </a:solidFill>
                    <a:miter/>
                  </a:ln>
                  <a:gradFill rotWithShape="0">
                    <a:gsLst>
                      <a:gs pos="0">
                        <a:srgbClr val="fbeac7"/>
                      </a:gs>
                      <a:gs pos="100000">
                        <a:srgbClr val="fee7f2"/>
                      </a:gs>
                    </a:gsLst>
                    <a:lin ang="5400000"/>
                  </a:gradFill>
                  <a:effectLst>
                    <a:outerShdw dist="107932" dir="18900000" blurRad="0" rotWithShape="0">
                      <a:srgbClr val="cc6600">
                        <a:alpha val="50000"/>
                      </a:srgbClr>
                    </a:outerShdw>
                  </a:effectLst>
                  <a:latin typeface="Arial"/>
                </a:rPr>
                <a:t>МУХА</a:t>
              </a:r>
              <a:endParaRPr b="1" lang="en-US" sz="1800" spc="1" strike="noStrike">
                <a:ln w="2844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c660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21" name="Oval 10"/>
            <p:cNvSpPr/>
            <p:nvPr/>
          </p:nvSpPr>
          <p:spPr>
            <a:xfrm>
              <a:off x="900000" y="5013360"/>
              <a:ext cx="792360" cy="792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58085E-006 L 2.5E-006 0.28314 E">
                                      <p:cBhvr>
                                        <p:cTn id="45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91464E-007 L 5E-006 -0.28314 E">
                                      <p:cBhvr>
                                        <p:cTn id="45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2"/>
          <p:cNvGrpSpPr/>
          <p:nvPr/>
        </p:nvGrpSpPr>
        <p:grpSpPr>
          <a:xfrm>
            <a:off x="826920" y="549360"/>
            <a:ext cx="7777440" cy="1727280"/>
            <a:chOff x="826920" y="549360"/>
            <a:chExt cx="7777440" cy="1727280"/>
          </a:xfrm>
        </p:grpSpPr>
        <p:sp>
          <p:nvSpPr>
            <p:cNvPr id="123" name="WordArt 3"/>
            <p:cNvSpPr txBox="1"/>
            <p:nvPr/>
          </p:nvSpPr>
          <p:spPr>
            <a:xfrm>
              <a:off x="2268360" y="549360"/>
              <a:ext cx="6336000" cy="172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663300"/>
                    </a:solidFill>
                    <a:miter/>
                  </a:ln>
                  <a:gradFill rotWithShape="0">
                    <a:gsLst>
                      <a:gs pos="0">
                        <a:srgbClr val="fbeac7"/>
                      </a:gs>
                      <a:gs pos="100000">
                        <a:srgbClr val="fee7f2"/>
                      </a:gs>
                    </a:gsLst>
                    <a:lin ang="5400000"/>
                  </a:gradFill>
                  <a:effectLst>
                    <a:outerShdw dist="107932" dir="18900000" blurRad="0" rotWithShape="0">
                      <a:srgbClr val="cc6600">
                        <a:alpha val="50000"/>
                      </a:srgbClr>
                    </a:outerShdw>
                  </a:effectLst>
                  <a:latin typeface="Arial"/>
                </a:rPr>
                <a:t>МЕДВЕДИ</a:t>
              </a:r>
              <a:endParaRPr b="1" lang="en-US" sz="1800" spc="1" strike="noStrike">
                <a:ln w="2844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c660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24" name="Oval 4"/>
            <p:cNvSpPr/>
            <p:nvPr/>
          </p:nvSpPr>
          <p:spPr>
            <a:xfrm>
              <a:off x="826920" y="907920"/>
              <a:ext cx="792360" cy="7923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3"/>
          <p:cNvGrpSpPr/>
          <p:nvPr/>
        </p:nvGrpSpPr>
        <p:grpSpPr>
          <a:xfrm>
            <a:off x="900000" y="2565360"/>
            <a:ext cx="4248360" cy="1584360"/>
            <a:chOff x="900000" y="2565360"/>
            <a:chExt cx="4248360" cy="1584360"/>
          </a:xfrm>
        </p:grpSpPr>
        <p:sp>
          <p:nvSpPr>
            <p:cNvPr id="126" name="WordArt 6"/>
            <p:cNvSpPr txBox="1"/>
            <p:nvPr/>
          </p:nvSpPr>
          <p:spPr>
            <a:xfrm>
              <a:off x="2556000" y="2565360"/>
              <a:ext cx="2592360" cy="15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663300"/>
                    </a:solidFill>
                    <a:miter/>
                  </a:ln>
                  <a:gradFill rotWithShape="0">
                    <a:gsLst>
                      <a:gs pos="0">
                        <a:srgbClr val="fbeac7"/>
                      </a:gs>
                      <a:gs pos="100000">
                        <a:srgbClr val="fee7f2"/>
                      </a:gs>
                    </a:gsLst>
                    <a:lin ang="5400000"/>
                  </a:gradFill>
                  <a:effectLst>
                    <a:outerShdw dist="107932" dir="18900000" blurRad="0" rotWithShape="0">
                      <a:srgbClr val="cc6600">
                        <a:alpha val="50000"/>
                      </a:srgbClr>
                    </a:outerShdw>
                  </a:effectLst>
                  <a:latin typeface="Arial"/>
                </a:rPr>
                <a:t>КОТ</a:t>
              </a:r>
              <a:endParaRPr b="1" lang="en-US" sz="1800" spc="1" strike="noStrike">
                <a:ln w="2844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c660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27" name="Oval 7"/>
            <p:cNvSpPr/>
            <p:nvPr/>
          </p:nvSpPr>
          <p:spPr>
            <a:xfrm>
              <a:off x="900000" y="2924280"/>
              <a:ext cx="792360" cy="7920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900000" y="4581360"/>
            <a:ext cx="7920000" cy="1584360"/>
            <a:chOff x="900000" y="4581360"/>
            <a:chExt cx="7920000" cy="1584360"/>
          </a:xfrm>
        </p:grpSpPr>
        <p:sp>
          <p:nvSpPr>
            <p:cNvPr id="129" name="WordArt 9"/>
            <p:cNvSpPr txBox="1"/>
            <p:nvPr/>
          </p:nvSpPr>
          <p:spPr>
            <a:xfrm>
              <a:off x="2050920" y="4581360"/>
              <a:ext cx="6769080" cy="15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663300"/>
                    </a:solidFill>
                    <a:miter/>
                  </a:ln>
                  <a:gradFill rotWithShape="0">
                    <a:gsLst>
                      <a:gs pos="0">
                        <a:srgbClr val="fbeac7"/>
                      </a:gs>
                      <a:gs pos="100000">
                        <a:srgbClr val="fee7f2"/>
                      </a:gs>
                    </a:gsLst>
                    <a:lin ang="5400000"/>
                  </a:gradFill>
                  <a:effectLst>
                    <a:outerShdw dist="107932" dir="18900000" blurRad="0" rotWithShape="0">
                      <a:srgbClr val="cc6600">
                        <a:alpha val="50000"/>
                      </a:srgbClr>
                    </a:outerShdw>
                  </a:effectLst>
                  <a:latin typeface="Arial"/>
                </a:rPr>
                <a:t>КОМАРИКИ</a:t>
              </a:r>
              <a:endParaRPr b="1" lang="en-US" sz="1800" spc="1" strike="noStrike">
                <a:ln w="2844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c660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30" name="Oval 10"/>
            <p:cNvSpPr/>
            <p:nvPr/>
          </p:nvSpPr>
          <p:spPr>
            <a:xfrm>
              <a:off x="900000" y="5013360"/>
              <a:ext cx="792360" cy="792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395280" y="1844640"/>
            <a:ext cx="8280360" cy="3602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cc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c6600">
                      <a:alpha val="50000"/>
                    </a:srgbClr>
                  </a:outerShdw>
                </a:effectLst>
                <a:latin typeface="Arial"/>
              </a:rPr>
              <a:t>СОРОКОНОЖКА</a:t>
            </a:r>
            <a:endParaRPr b="1" lang="en-US" sz="1800" spc="1" strike="noStrike">
              <a:ln w="1908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07932" dir="18900000" blurRad="0" rotWithShape="0">
                  <a:srgbClr val="cc66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2" name="Group 6"/>
          <p:cNvGrpSpPr/>
          <p:nvPr/>
        </p:nvGrpSpPr>
        <p:grpSpPr>
          <a:xfrm>
            <a:off x="9325080" y="4049640"/>
            <a:ext cx="6048360" cy="2808360"/>
            <a:chOff x="9325080" y="4049640"/>
            <a:chExt cx="6048360" cy="2808360"/>
          </a:xfrm>
        </p:grpSpPr>
        <p:sp>
          <p:nvSpPr>
            <p:cNvPr id="133" name="Oval 7"/>
            <p:cNvSpPr/>
            <p:nvPr/>
          </p:nvSpPr>
          <p:spPr>
            <a:xfrm>
              <a:off x="9453960" y="4606200"/>
              <a:ext cx="1084680" cy="12610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8"/>
            <p:cNvSpPr/>
            <p:nvPr/>
          </p:nvSpPr>
          <p:spPr>
            <a:xfrm>
              <a:off x="10227240" y="5137920"/>
              <a:ext cx="934560" cy="10512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"/>
            <p:cNvSpPr/>
            <p:nvPr/>
          </p:nvSpPr>
          <p:spPr>
            <a:xfrm>
              <a:off x="10979280" y="5335560"/>
              <a:ext cx="934560" cy="10512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0"/>
            <p:cNvSpPr/>
            <p:nvPr/>
          </p:nvSpPr>
          <p:spPr>
            <a:xfrm>
              <a:off x="11720520" y="5137920"/>
              <a:ext cx="934560" cy="10512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1"/>
            <p:cNvSpPr/>
            <p:nvPr/>
          </p:nvSpPr>
          <p:spPr>
            <a:xfrm>
              <a:off x="12569400" y="5063760"/>
              <a:ext cx="934560" cy="10512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2"/>
            <p:cNvSpPr/>
            <p:nvPr/>
          </p:nvSpPr>
          <p:spPr>
            <a:xfrm>
              <a:off x="13224960" y="5533920"/>
              <a:ext cx="934560" cy="10512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13880160" y="5780880"/>
              <a:ext cx="794880" cy="8658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"/>
            <p:cNvSpPr/>
            <p:nvPr/>
          </p:nvSpPr>
          <p:spPr>
            <a:xfrm>
              <a:off x="14546160" y="5780880"/>
              <a:ext cx="644400" cy="6678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>
              <a:off x="9421560" y="4235040"/>
              <a:ext cx="246960" cy="6678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6"/>
            <p:cNvSpPr/>
            <p:nvPr/>
          </p:nvSpPr>
          <p:spPr>
            <a:xfrm flipV="1">
              <a:off x="10130760" y="4136040"/>
              <a:ext cx="204120" cy="70488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7"/>
            <p:cNvSpPr/>
            <p:nvPr/>
          </p:nvSpPr>
          <p:spPr>
            <a:xfrm>
              <a:off x="10248840" y="4049640"/>
              <a:ext cx="177480" cy="17280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8"/>
            <p:cNvSpPr/>
            <p:nvPr/>
          </p:nvSpPr>
          <p:spPr>
            <a:xfrm>
              <a:off x="9325080" y="4136040"/>
              <a:ext cx="177480" cy="17280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9"/>
            <p:cNvSpPr/>
            <p:nvPr/>
          </p:nvSpPr>
          <p:spPr>
            <a:xfrm>
              <a:off x="9614880" y="5063760"/>
              <a:ext cx="177480" cy="17280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10087560" y="5051160"/>
              <a:ext cx="177480" cy="17280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9786960" y="5472720"/>
              <a:ext cx="343800" cy="150120"/>
            </a:xfrm>
            <a:custGeom>
              <a:avLst/>
              <a:gdLst>
                <a:gd name="textAreaLeft" fmla="*/ 0 w 343800"/>
                <a:gd name="textAreaRight" fmla="*/ 344160 w 343800"/>
                <a:gd name="textAreaTop" fmla="*/ 0 h 150120"/>
                <a:gd name="textAreaBottom" fmla="*/ 150120 h 150120"/>
              </a:gdLst>
              <a:ahLst/>
              <a:rect l="textAreaLeft" t="textAreaTop" r="textAreaRight" b="textAreaBottom"/>
              <a:pathLst>
                <a:path w="480" h="182">
                  <a:moveTo>
                    <a:pt x="0" y="0"/>
                  </a:moveTo>
                  <a:cubicBezTo>
                    <a:pt x="80" y="89"/>
                    <a:pt x="160" y="178"/>
                    <a:pt x="240" y="180"/>
                  </a:cubicBezTo>
                  <a:cubicBezTo>
                    <a:pt x="320" y="182"/>
                    <a:pt x="400" y="98"/>
                    <a:pt x="480" y="15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10270440" y="5893200"/>
              <a:ext cx="214560" cy="4946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300" h="600">
                  <a:moveTo>
                    <a:pt x="270" y="0"/>
                  </a:moveTo>
                  <a:cubicBezTo>
                    <a:pt x="285" y="167"/>
                    <a:pt x="300" y="335"/>
                    <a:pt x="255" y="435"/>
                  </a:cubicBezTo>
                  <a:cubicBezTo>
                    <a:pt x="210" y="535"/>
                    <a:pt x="105" y="567"/>
                    <a:pt x="0" y="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3"/>
            <p:cNvSpPr/>
            <p:nvPr/>
          </p:nvSpPr>
          <p:spPr>
            <a:xfrm>
              <a:off x="10539000" y="5880960"/>
              <a:ext cx="214560" cy="4946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300" h="600">
                  <a:moveTo>
                    <a:pt x="270" y="0"/>
                  </a:moveTo>
                  <a:cubicBezTo>
                    <a:pt x="285" y="167"/>
                    <a:pt x="300" y="335"/>
                    <a:pt x="255" y="435"/>
                  </a:cubicBezTo>
                  <a:cubicBezTo>
                    <a:pt x="210" y="535"/>
                    <a:pt x="105" y="567"/>
                    <a:pt x="0" y="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4"/>
            <p:cNvSpPr/>
            <p:nvPr/>
          </p:nvSpPr>
          <p:spPr>
            <a:xfrm>
              <a:off x="11076120" y="6066360"/>
              <a:ext cx="214560" cy="4946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300" h="600">
                  <a:moveTo>
                    <a:pt x="270" y="0"/>
                  </a:moveTo>
                  <a:cubicBezTo>
                    <a:pt x="285" y="167"/>
                    <a:pt x="300" y="335"/>
                    <a:pt x="255" y="435"/>
                  </a:cubicBezTo>
                  <a:cubicBezTo>
                    <a:pt x="210" y="535"/>
                    <a:pt x="105" y="567"/>
                    <a:pt x="0" y="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5"/>
            <p:cNvSpPr/>
            <p:nvPr/>
          </p:nvSpPr>
          <p:spPr>
            <a:xfrm>
              <a:off x="11344680" y="6115680"/>
              <a:ext cx="214560" cy="4946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300" h="600">
                  <a:moveTo>
                    <a:pt x="270" y="0"/>
                  </a:moveTo>
                  <a:cubicBezTo>
                    <a:pt x="285" y="167"/>
                    <a:pt x="300" y="335"/>
                    <a:pt x="255" y="435"/>
                  </a:cubicBezTo>
                  <a:cubicBezTo>
                    <a:pt x="210" y="535"/>
                    <a:pt x="105" y="567"/>
                    <a:pt x="0" y="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11871000" y="5930280"/>
              <a:ext cx="214560" cy="494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300" h="600">
                  <a:moveTo>
                    <a:pt x="270" y="0"/>
                  </a:moveTo>
                  <a:cubicBezTo>
                    <a:pt x="285" y="167"/>
                    <a:pt x="300" y="335"/>
                    <a:pt x="255" y="435"/>
                  </a:cubicBezTo>
                  <a:cubicBezTo>
                    <a:pt x="210" y="535"/>
                    <a:pt x="105" y="567"/>
                    <a:pt x="0" y="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7"/>
            <p:cNvSpPr/>
            <p:nvPr/>
          </p:nvSpPr>
          <p:spPr>
            <a:xfrm>
              <a:off x="12182760" y="5917680"/>
              <a:ext cx="214560" cy="4946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300" h="600">
                  <a:moveTo>
                    <a:pt x="270" y="0"/>
                  </a:moveTo>
                  <a:cubicBezTo>
                    <a:pt x="285" y="167"/>
                    <a:pt x="300" y="335"/>
                    <a:pt x="255" y="435"/>
                  </a:cubicBezTo>
                  <a:cubicBezTo>
                    <a:pt x="210" y="535"/>
                    <a:pt x="105" y="567"/>
                    <a:pt x="0" y="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8"/>
            <p:cNvSpPr/>
            <p:nvPr/>
          </p:nvSpPr>
          <p:spPr>
            <a:xfrm>
              <a:off x="12612240" y="5794200"/>
              <a:ext cx="214560" cy="4946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300" h="600">
                  <a:moveTo>
                    <a:pt x="270" y="0"/>
                  </a:moveTo>
                  <a:cubicBezTo>
                    <a:pt x="285" y="167"/>
                    <a:pt x="300" y="335"/>
                    <a:pt x="255" y="435"/>
                  </a:cubicBezTo>
                  <a:cubicBezTo>
                    <a:pt x="210" y="535"/>
                    <a:pt x="105" y="567"/>
                    <a:pt x="0" y="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9"/>
            <p:cNvSpPr/>
            <p:nvPr/>
          </p:nvSpPr>
          <p:spPr>
            <a:xfrm>
              <a:off x="12870360" y="5831280"/>
              <a:ext cx="214560" cy="4946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300" h="600">
                  <a:moveTo>
                    <a:pt x="270" y="0"/>
                  </a:moveTo>
                  <a:cubicBezTo>
                    <a:pt x="285" y="167"/>
                    <a:pt x="300" y="335"/>
                    <a:pt x="255" y="435"/>
                  </a:cubicBezTo>
                  <a:cubicBezTo>
                    <a:pt x="210" y="535"/>
                    <a:pt x="105" y="567"/>
                    <a:pt x="0" y="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0"/>
            <p:cNvSpPr/>
            <p:nvPr/>
          </p:nvSpPr>
          <p:spPr>
            <a:xfrm>
              <a:off x="13192560" y="6190200"/>
              <a:ext cx="214560" cy="494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300" h="600">
                  <a:moveTo>
                    <a:pt x="270" y="0"/>
                  </a:moveTo>
                  <a:cubicBezTo>
                    <a:pt x="285" y="167"/>
                    <a:pt x="300" y="335"/>
                    <a:pt x="255" y="435"/>
                  </a:cubicBezTo>
                  <a:cubicBezTo>
                    <a:pt x="210" y="535"/>
                    <a:pt x="105" y="567"/>
                    <a:pt x="0" y="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1"/>
            <p:cNvSpPr/>
            <p:nvPr/>
          </p:nvSpPr>
          <p:spPr>
            <a:xfrm>
              <a:off x="13450320" y="6264360"/>
              <a:ext cx="214560" cy="494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300" h="600">
                  <a:moveTo>
                    <a:pt x="270" y="0"/>
                  </a:moveTo>
                  <a:cubicBezTo>
                    <a:pt x="285" y="167"/>
                    <a:pt x="300" y="335"/>
                    <a:pt x="255" y="435"/>
                  </a:cubicBezTo>
                  <a:cubicBezTo>
                    <a:pt x="210" y="535"/>
                    <a:pt x="105" y="567"/>
                    <a:pt x="0" y="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2"/>
            <p:cNvSpPr/>
            <p:nvPr/>
          </p:nvSpPr>
          <p:spPr>
            <a:xfrm>
              <a:off x="13998240" y="6338520"/>
              <a:ext cx="214560" cy="4946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300" h="600">
                  <a:moveTo>
                    <a:pt x="270" y="0"/>
                  </a:moveTo>
                  <a:cubicBezTo>
                    <a:pt x="285" y="167"/>
                    <a:pt x="300" y="335"/>
                    <a:pt x="255" y="435"/>
                  </a:cubicBezTo>
                  <a:cubicBezTo>
                    <a:pt x="210" y="535"/>
                    <a:pt x="105" y="567"/>
                    <a:pt x="0" y="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3"/>
            <p:cNvSpPr/>
            <p:nvPr/>
          </p:nvSpPr>
          <p:spPr>
            <a:xfrm>
              <a:off x="14213160" y="6363360"/>
              <a:ext cx="214560" cy="4946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300" h="600">
                  <a:moveTo>
                    <a:pt x="270" y="0"/>
                  </a:moveTo>
                  <a:cubicBezTo>
                    <a:pt x="285" y="167"/>
                    <a:pt x="300" y="335"/>
                    <a:pt x="255" y="435"/>
                  </a:cubicBezTo>
                  <a:cubicBezTo>
                    <a:pt x="210" y="535"/>
                    <a:pt x="105" y="567"/>
                    <a:pt x="0" y="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4"/>
            <p:cNvSpPr/>
            <p:nvPr/>
          </p:nvSpPr>
          <p:spPr>
            <a:xfrm>
              <a:off x="14632200" y="6227280"/>
              <a:ext cx="214560" cy="4946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300" h="600">
                  <a:moveTo>
                    <a:pt x="270" y="0"/>
                  </a:moveTo>
                  <a:cubicBezTo>
                    <a:pt x="285" y="167"/>
                    <a:pt x="300" y="335"/>
                    <a:pt x="255" y="435"/>
                  </a:cubicBezTo>
                  <a:cubicBezTo>
                    <a:pt x="210" y="535"/>
                    <a:pt x="105" y="567"/>
                    <a:pt x="0" y="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5"/>
            <p:cNvSpPr/>
            <p:nvPr/>
          </p:nvSpPr>
          <p:spPr>
            <a:xfrm>
              <a:off x="14803920" y="6227280"/>
              <a:ext cx="214560" cy="4946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300" h="600">
                  <a:moveTo>
                    <a:pt x="270" y="0"/>
                  </a:moveTo>
                  <a:cubicBezTo>
                    <a:pt x="285" y="167"/>
                    <a:pt x="300" y="335"/>
                    <a:pt x="255" y="435"/>
                  </a:cubicBezTo>
                  <a:cubicBezTo>
                    <a:pt x="210" y="535"/>
                    <a:pt x="105" y="567"/>
                    <a:pt x="0" y="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6"/>
            <p:cNvSpPr/>
            <p:nvPr/>
          </p:nvSpPr>
          <p:spPr>
            <a:xfrm>
              <a:off x="14954400" y="5681880"/>
              <a:ext cx="419040" cy="494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0.01943 C -0.06927 -0.00741 -0.07153 -0.03424 -0.08802 -0.05112 C -0.10451 -0.06801 -0.14236 -0.0694 -0.1658 -0.08235 C -0.18924 -0.09531 -0.21424 -0.10155 -0.22917 -0.12954 C -0.2441 -0.15753 -0.23941 -0.22068 -0.25521 -0.25029 C -0.27101 -0.2799 -0.29601 -0.30188 -0.32448 -0.30673 C -0.35295 -0.31159 -0.38802 -0.28245 -0.42569 -0.2799 C -0.46337 -0.27736 -0.52257 -0.27551 -0.55035 -0.291 C -0.57812 -0.3065 -0.57274 -0.35184 -0.59271 -0.37243 C -0.61267 -0.39302 -0.63142 -0.40875 -0.67049 -0.41476 C -0.70955 -0.42078 -0.80052 -0.40967 -0.82691 -0.40852 E">
                                      <p:cBhvr>
                                        <p:cTn id="489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ы 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я игры «Звёздный час» взята из Сборника  «Я иду на урок в начальную школу» Внеклассная работа. Олимпиады и интеллектуальные игры. Москва «Первое сентября»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ы, викторины, конкурсы в начальной школе авторы О.В. Перекатьева, Подгорная С.Н. Издатель: М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250920" y="36864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мар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апрел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ма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июн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250920" y="836640"/>
            <a:ext cx="792000" cy="79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/>
          <p:cNvSpPr/>
          <p:nvPr/>
        </p:nvSpPr>
        <p:spPr>
          <a:xfrm>
            <a:off x="250920" y="2349360"/>
            <a:ext cx="792000" cy="792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250920" y="3789360"/>
            <a:ext cx="792000" cy="7920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250920" y="5300640"/>
            <a:ext cx="792000" cy="7923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1" dur="8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50920" y="36864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парно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бело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вкусно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топлёно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3"/>
          <p:cNvSpPr/>
          <p:nvPr/>
        </p:nvSpPr>
        <p:spPr>
          <a:xfrm>
            <a:off x="250920" y="836640"/>
            <a:ext cx="792000" cy="79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250920" y="2349360"/>
            <a:ext cx="792000" cy="792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250920" y="3789360"/>
            <a:ext cx="792000" cy="7920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250920" y="5300640"/>
            <a:ext cx="792000" cy="7923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50920" y="36864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Енисе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Байк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До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Волг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"/>
          <p:cNvSpPr/>
          <p:nvPr/>
        </p:nvSpPr>
        <p:spPr>
          <a:xfrm>
            <a:off x="250920" y="836640"/>
            <a:ext cx="792000" cy="79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"/>
          <p:cNvSpPr/>
          <p:nvPr/>
        </p:nvSpPr>
        <p:spPr>
          <a:xfrm>
            <a:off x="250920" y="2349360"/>
            <a:ext cx="792000" cy="792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250920" y="3789360"/>
            <a:ext cx="792000" cy="7920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250920" y="5300640"/>
            <a:ext cx="792000" cy="7923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50920" y="36684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А.Толсто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Л. Кэррол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. Драгунски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Н. Носо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"/>
          <p:cNvSpPr/>
          <p:nvPr/>
        </p:nvSpPr>
        <p:spPr>
          <a:xfrm>
            <a:off x="250920" y="836640"/>
            <a:ext cx="792000" cy="79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250920" y="2349360"/>
            <a:ext cx="792000" cy="792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250920" y="3789360"/>
            <a:ext cx="792000" cy="7920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250920" y="5300640"/>
            <a:ext cx="792000" cy="7923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4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50920" y="36864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Волг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Об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О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"/>
          <p:cNvSpPr/>
          <p:nvPr/>
        </p:nvSpPr>
        <p:spPr>
          <a:xfrm>
            <a:off x="250920" y="836640"/>
            <a:ext cx="792000" cy="79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250920" y="2349360"/>
            <a:ext cx="792000" cy="792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250920" y="3789360"/>
            <a:ext cx="792000" cy="7920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250920" y="5300640"/>
            <a:ext cx="792000" cy="7923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50920" y="36864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"/>
          <p:cNvSpPr/>
          <p:nvPr/>
        </p:nvSpPr>
        <p:spPr>
          <a:xfrm>
            <a:off x="250920" y="836640"/>
            <a:ext cx="792000" cy="79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50920" y="2349360"/>
            <a:ext cx="792000" cy="792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250920" y="3789360"/>
            <a:ext cx="792000" cy="7920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250920" y="5300640"/>
            <a:ext cx="792000" cy="7923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50920" y="36864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по дня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по часа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по секунда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по минута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"/>
          <p:cNvSpPr/>
          <p:nvPr/>
        </p:nvSpPr>
        <p:spPr>
          <a:xfrm>
            <a:off x="250920" y="836640"/>
            <a:ext cx="792000" cy="79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250920" y="2349360"/>
            <a:ext cx="792000" cy="792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50920" y="3789360"/>
            <a:ext cx="792000" cy="7920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/>
          <p:cNvSpPr/>
          <p:nvPr/>
        </p:nvSpPr>
        <p:spPr>
          <a:xfrm>
            <a:off x="250920" y="5300640"/>
            <a:ext cx="792000" cy="7923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250920" y="36864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яблок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колбас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"/>
          <p:cNvSpPr/>
          <p:nvPr/>
        </p:nvSpPr>
        <p:spPr>
          <a:xfrm>
            <a:off x="250920" y="836640"/>
            <a:ext cx="792000" cy="792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"/>
          <p:cNvSpPr/>
          <p:nvPr/>
        </p:nvSpPr>
        <p:spPr>
          <a:xfrm>
            <a:off x="250920" y="2349360"/>
            <a:ext cx="792000" cy="792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250920" y="3789360"/>
            <a:ext cx="792000" cy="7920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6"/>
          <p:cNvSpPr/>
          <p:nvPr/>
        </p:nvSpPr>
        <p:spPr>
          <a:xfrm>
            <a:off x="250920" y="5300640"/>
            <a:ext cx="792000" cy="7923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8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8:53:09Z</dcterms:created>
  <dc:creator>Дима</dc:creator>
  <dc:description/>
  <dc:language>en-US</dc:language>
  <cp:lastModifiedBy>123</cp:lastModifiedBy>
  <dcterms:modified xsi:type="dcterms:W3CDTF">2013-11-17T16:40:47Z</dcterms:modified>
  <cp:revision>14</cp:revision>
  <dc:subject/>
  <dc:title>Слайд 1</dc:title>
</cp:coreProperties>
</file>